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1DE6-8986-4168-86E3-85FA86AE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03A2-9AC0-462D-8B92-A90F3334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5DF5-D33D-4909-B0D5-1FC07356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3CD3-ECB3-42E4-AF93-2C5E2C99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9E86-69BC-410D-A7F3-B00584DE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6C43-4333-4EBF-9112-1C7B2FF3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7EF7-D913-4EE8-A3F8-0254DAAE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1AED-92CB-4082-8BD1-FC28E416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D094-64C8-48DF-9713-BF56026B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DB13-025C-4D72-B6FE-689F9AF4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3021-DAC4-468C-80FF-8D767E1E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25FE-4E1D-487E-B0DB-0EEAB63B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D9E4-AA45-4F91-9D36-34F5783C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B71F-7E4F-4E11-A209-F3828BF5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0494-B497-46DB-AEF6-D45FC94E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B60E-D000-4A80-99B9-6D11B6AAE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3A8D-E104-4985-BB4B-7F7FB7B39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EE32-86DE-48D5-8A79-02CC6C92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6F99-A34D-45EC-B1E6-3BFA08EC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C451-1B01-4F65-9E34-F288A684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C936-5A79-4254-9967-864C37CD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C9D1-5F4F-4A14-968B-7891E6B2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04EC-4F57-48F7-A4D1-51FC11F0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F2DE-9A3A-4C56-B1F1-E8D4DECD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6BFA-ED4E-407E-BED0-5002E8B955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7B76-7E6C-42AA-9F99-A7D6186E6B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ameron 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 scarecr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scarecrow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was a dark and scary night, the wind howled wildly. Kids where scared about...scarecrow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95280" y="3657600"/>
            <a:ext cx="1067040" cy="1949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352680" y="3886200"/>
            <a:ext cx="2210040" cy="1231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324480" y="3657600"/>
            <a:ext cx="1744920" cy="2082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6002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scarecrow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ds were afraid. No body went out for halloween only one person went, someone with a straw hat on and hay coming down it’s le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3124080"/>
            <a:ext cx="411480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carecrow walked from house to house, but know body answered. He was tie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191120" y="3886200"/>
            <a:ext cx="922320" cy="923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971800" y="3886200"/>
            <a:ext cx="922320" cy="923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486400" y="3886200"/>
            <a:ext cx="922320" cy="923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600200" y="3886200"/>
            <a:ext cx="922320" cy="923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6781680" y="3886200"/>
            <a:ext cx="922320" cy="923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6551640" y="426708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2133720" y="2666880"/>
            <a:ext cx="188280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then the scarecrow never again scared people for his own good on hollowe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971800" y="2666880"/>
            <a:ext cx="3390840" cy="2781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038480" y="5257800"/>
            <a:ext cx="88920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5640" y="2133720"/>
            <a:ext cx="624852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6:11:25Z</dcterms:created>
  <dc:creator>dharan albuoy</dc:creator>
  <dc:description/>
  <dc:language>en-US</dc:language>
  <cp:lastModifiedBy>dharan albuoy</cp:lastModifiedBy>
  <dcterms:modified xsi:type="dcterms:W3CDTF">2010-11-01T16:33:40Z</dcterms:modified>
  <cp:revision>4</cp:revision>
  <dc:subject/>
  <dc:title>cameron</dc:title>
</cp:coreProperties>
</file>